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CD4-173F-4717-8B92-731769B5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3397-C4E9-4809-8F20-8A29F5DF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C2C-DD8C-42F5-B69F-D0D19E6B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882-9225-46D5-B183-0F337504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920B-6387-47DD-A2BB-DE520872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1E16-9F81-454C-8452-1FA002B4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723D-ACDB-4D0D-967C-D450266B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C734-DAB7-452E-995F-CF72D586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7448-ADA5-42EE-B516-BAE1E3A5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B78C-8420-410B-AA9D-1EF9B4C4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9072-6CD1-4E06-89B2-255CF4CC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DC8-9482-4DC8-A3D5-7F87BA04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74CC-C4CD-4AFA-AEF0-2879E31D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0223-73D5-4729-9485-F59E5E29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7667-8066-4F5A-969D-003F8B59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D563-68D7-4978-A740-9619DC64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1BEF-DCF6-4319-88D5-36F63D3B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0CBCA-E18F-4416-B87E-9A793211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95455-8254-46CF-8F28-846AC95F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8F034-1BB9-4001-8145-029D473B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AAED8-F09B-4171-B515-658700DF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E96EF-B626-40D9-8EAE-FC8A48D6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AAE-F873-493D-BFD7-C5F3B4C2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4E326-25E9-4157-887A-7B95460E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FB97F-B2BB-4BCA-854B-6731F008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18B8D-7056-4A39-BB70-3867DA81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E6C7D-488A-42A4-ACD3-2B2E52CC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57E5D-701B-48C7-A7DB-114F41ED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FD8D0-F883-4DEC-90AA-C299EABB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6F01B-35B2-40BF-AEF1-CADFDE05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B2A26-0DD7-4E26-8204-3D84C1FD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90008-D388-4827-9693-70B0C137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3A0AF-C68B-4CDA-91EA-2CC090F0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8712-88B0-499C-A9E0-0DFD44B1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63526-2A2F-4C78-A828-FDD36BD4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337F2-AF62-4785-92DC-50BE07BB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7A030-7047-40CD-9231-B6176294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CF465-ECAC-49E1-9F82-D2BE7977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96E88-530F-4168-864A-7093E403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03B12-6668-41CA-9761-9F1B227A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85EB0-0E58-42D6-A944-104B30F2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DF189-7188-47E9-84AC-CAD35889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540C4-A5D8-4330-BEE3-28F34F8B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66A6-5769-49B5-AEB7-A1B26916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6250-80AF-4504-8299-B799152A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EB5-DEFD-4E77-A511-517814FA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0301-1333-45EE-AF88-93022D77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EEF-6593-4DA7-853C-62356B2F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BAD5E-D8E7-4319-A388-3DDF6DFB3B71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26512-115B-464E-82AD-CC25ED09225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5DB3F-0CD0-4A85-9FAD-C9B5A7F478BB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0AB23-404F-454B-8C05-479B4AB7028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B51FC-51F9-436B-8C66-2BA29EBDA2D1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0D1C1-D566-4FCB-9F67-A14219798AF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6F5906-1E30-487A-9B17-2A00B97F6F9A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92F57C-CD00-4F91-94C3-8EB70B22544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Yongmin Ch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4617b"/>
                </a:solidFill>
                <a:latin typeface="Calibri"/>
              </a:rPr>
              <a:t>W.N.C, A Solution to end the </a:t>
            </a:r>
            <a:br>
              <a:rPr sz="4100"/>
            </a:br>
            <a:r>
              <a:rPr b="0" lang="en-US" sz="4100" spc="-1" strike="noStrike">
                <a:solidFill>
                  <a:srgbClr val="04617b"/>
                </a:solidFill>
                <a:latin typeface="Calibri"/>
              </a:rPr>
              <a:t>Arms Race?</a:t>
            </a: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ducted in 1921 in Washinton D.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.K.A Post-war experiment at disarmame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ught to end the naval arms race between Britain, Japan and U.S by limiting of naval arma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jor Naval Powers Atten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77680" indent="-49356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nited Sta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77680" indent="-49356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ritish Kingd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77680" indent="-49356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77680" indent="-49356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al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77680" indent="-49356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Spirit of the Agre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intain Peace in the Pacif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duce burdens of armament in compet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t an end to Japanese expan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tter of the Agreement: 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did it accomplish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y Treaties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ur Power Trea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ve Power Treaty (Washington Naval Treat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ine Power Trea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Summary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eets were limited in size and arma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eased ‘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attle ship’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pen Door Policy (free trade) in Chi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mediate Effe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om naval limitations, participating nations were able to save a lot of mone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lmed tensions in the Pacific and preserved peace in the 1920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tain and U.S. benefitted from abolition of Anglo – Japanese Alli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4617b"/>
                </a:solidFill>
                <a:latin typeface="Calibri"/>
              </a:rPr>
              <a:t>Problems of the Agreement and why it was not effective in the long run!!</a:t>
            </a: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e were loopholes; with excess funds, nations constructed smaller, more effective vessels that were not touched in the letter of the agre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pan’s fleet was concentrated; it ultimately enabled Rise of Japanese Empire as a naval power leading up to WWII, after Japan ended participation in 193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29:57Z</dcterms:created>
  <dc:creator>Yongmin Cho</dc:creator>
  <dc:description/>
  <dc:language>en-US</dc:language>
  <cp:lastModifiedBy>Yongmin Cho</cp:lastModifiedBy>
  <dcterms:modified xsi:type="dcterms:W3CDTF">2008-10-14T11:42:17Z</dcterms:modified>
  <cp:revision>28</cp:revision>
  <dc:subject/>
  <dc:title>Washington Naval Conference</dc:title>
</cp:coreProperties>
</file>